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5.gif" ContentType="image/gif"/>
  <Override PartName="/ppt/media/image7.gif" ContentType="image/gi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5C21-35B3-45E5-8471-840E4997C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2BA8F8-727F-405B-80CB-330BA0C5F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A07254-90B5-45B5-B9A0-E21F3D068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F1F1B0-5DE4-4FF0-9148-8E2A47F7B2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D70C7C-66EF-4AE3-8C53-F849EB1DF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02B733-B7AB-4E8F-997F-5A3EEE21DD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C32E29-7DC5-4B4E-A983-00640AB6B6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EF7ACA-0DA0-4A1B-B7AF-33DE992D9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BFB03C-1CEB-44D4-BFD3-F8B7B3984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BAF-7E98-4ADB-AB68-160608B7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E0B-FBD8-44BC-94D4-F8FF865E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197-9273-4C6E-978B-2C8B5484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8F05-5109-44BA-9057-75AD9150C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0F44-F9FA-4695-ABF2-02E6FD97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DA4-5D01-4D90-8981-2C7084D1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FC9E-1CB1-47E5-B09E-99159D85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378-DA9B-4053-B987-2E7F4A65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BDF-B1E4-4F8A-A2FC-E03E545E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D15-BDD3-421A-B1EC-F37AEBC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DCC-55F7-428E-8B29-2F23D5D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E46-2801-452B-BBEE-5BCC40B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40EB-2B55-4EA8-A3FB-15E6BFE6F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6326-5C81-4F92-81E2-00D827EC16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niversal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5A19-8447-4142-A3AC-62406784A2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666880" y="3095640"/>
            <a:ext cx="38102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wo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ylindrica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5F23-352F-41AC-98F4-79397AE157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untitled"/>
          <p:cNvPicPr/>
          <p:nvPr/>
        </p:nvPicPr>
        <p:blipFill>
          <a:blip r:embed="rId1"/>
          <a:stretch/>
        </p:blipFill>
        <p:spPr>
          <a:xfrm>
            <a:off x="2666880" y="2514600"/>
            <a:ext cx="245772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ll-and-socket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herical jo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27E0-F299-4BAB-AF1D-85FEAB7323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per"/>
          <p:cNvPicPr/>
          <p:nvPr/>
        </p:nvPicPr>
        <p:blipFill>
          <a:blip r:embed="rId2"/>
          <a:stretch/>
        </p:blipFill>
        <p:spPr>
          <a:xfrm>
            <a:off x="4876920" y="2743200"/>
            <a:ext cx="32652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21E7-E8DA-4DE1-AB74-0F1C51B526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8" descr="manipulator-articulateed"/>
          <p:cNvPicPr/>
          <p:nvPr/>
        </p:nvPicPr>
        <p:blipFill>
          <a:blip r:embed="rId1"/>
          <a:stretch/>
        </p:blipFill>
        <p:spPr>
          <a:xfrm>
            <a:off x="838080" y="4114800"/>
            <a:ext cx="2133720" cy="1765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30" descr="manipulator-cartesian"/>
          <p:cNvPicPr/>
          <p:nvPr/>
        </p:nvPicPr>
        <p:blipFill>
          <a:blip r:embed="rId2"/>
          <a:stretch/>
        </p:blipFill>
        <p:spPr>
          <a:xfrm>
            <a:off x="838080" y="1523880"/>
            <a:ext cx="2028960" cy="1959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31" descr="manipulator-cylindrical"/>
          <p:cNvPicPr/>
          <p:nvPr/>
        </p:nvPicPr>
        <p:blipFill>
          <a:blip r:embed="rId3"/>
          <a:stretch/>
        </p:blipFill>
        <p:spPr>
          <a:xfrm>
            <a:off x="3352680" y="1523880"/>
            <a:ext cx="2286000" cy="1820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32" descr="manipulator-spherical"/>
          <p:cNvPicPr/>
          <p:nvPr/>
        </p:nvPicPr>
        <p:blipFill>
          <a:blip r:embed="rId4"/>
          <a:stretch/>
        </p:blipFill>
        <p:spPr>
          <a:xfrm>
            <a:off x="6172200" y="1295280"/>
            <a:ext cx="2057400" cy="2005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3" descr="manipulator-SCARA"/>
          <p:cNvPicPr/>
          <p:nvPr/>
        </p:nvPicPr>
        <p:blipFill>
          <a:blip r:embed="rId5"/>
          <a:stretch/>
        </p:blipFill>
        <p:spPr>
          <a:xfrm>
            <a:off x="3200400" y="3886200"/>
            <a:ext cx="2438280" cy="1690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34"/>
          <p:cNvSpPr/>
          <p:nvPr/>
        </p:nvSpPr>
        <p:spPr>
          <a:xfrm>
            <a:off x="83808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rtesian: P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35"/>
          <p:cNvSpPr/>
          <p:nvPr/>
        </p:nvSpPr>
        <p:spPr>
          <a:xfrm>
            <a:off x="3581280" y="3429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ylindrical: R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6"/>
          <p:cNvSpPr/>
          <p:nvPr/>
        </p:nvSpPr>
        <p:spPr>
          <a:xfrm>
            <a:off x="6248520" y="34290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herical: 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37"/>
          <p:cNvSpPr/>
          <p:nvPr/>
        </p:nvSpPr>
        <p:spPr>
          <a:xfrm>
            <a:off x="3200400" y="5638680"/>
            <a:ext cx="23623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Selective Compliance Assembly Robot Ar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38"/>
          <p:cNvSpPr/>
          <p:nvPr/>
        </p:nvSpPr>
        <p:spPr>
          <a:xfrm>
            <a:off x="762120" y="5943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ticulated: R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39" descr="manipulator-tool"/>
          <p:cNvPicPr/>
          <p:nvPr/>
        </p:nvPicPr>
        <p:blipFill>
          <a:blip r:embed="rId6"/>
          <a:stretch/>
        </p:blipFill>
        <p:spPr>
          <a:xfrm>
            <a:off x="6324480" y="3962520"/>
            <a:ext cx="1828800" cy="1282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040"/>
          <p:cNvSpPr/>
          <p:nvPr/>
        </p:nvSpPr>
        <p:spPr>
          <a:xfrm>
            <a:off x="5791320" y="5181480"/>
            <a:ext cx="37335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nd coordin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normal vector;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liding vector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approach vector, normal to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ol mounting 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configur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manipulator is a complete specification of the location of ever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f you know the values for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 variabl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(joint angle for revolute joints or joint offset for prismatic joints), it is straightforward to infer the position of any point on the manipul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A configuration is represented by a set of values for the joint variabl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object is said to hav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grees of freedom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DOF)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its configuration can be minimally 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 paramet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robot manipulator, the number of joints determine the number of DOF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ach any point in the space with an arbitrary orientation: 6 DOF (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ition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3 DOF f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ss than 6 DOF: the arm cant reach any point in the space with an arbitrary orien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6 DOF: Kinematically redundant manipulat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rtain applications may require more than 6 DOF, for 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acle Avoid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orkspace of the manipulator is the total volume swept out by the end effector as the manipulator executes all possible mo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space is constrain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ometry of the manipula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constraint of the joints (a revolute joint may be limited to less than 360 degre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video.avi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36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6504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entire set of points reachable by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sists of those points that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ipulator can reach with an arbitrary orientation of the end effe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Dextrous Workspac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s a subset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Reachable Worksp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B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rk W. Spong, Seth Hutchins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M. Vidyasagar,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bot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Contro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” 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ley , 200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0: 04716499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BN-13: 978-047164990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095880" y="1676520"/>
            <a:ext cx="27511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Mea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curac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come to a given point within its worksp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eat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is a measure of how close the manipulator can return to a previously taught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rist and 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st: the joints between the arm and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ically, the arm controls the position of the end effector, and the wrist controls the orient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 DOF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ypical wrist would have 3 DOF described as roll, pitch and yaw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oll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 around the arm ax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itch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p and down movement (assuming the roll is in its centre position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aw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ight to left rotation (assuming the roll is in its centre posi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wrist.jpg"/>
          <p:cNvPicPr/>
          <p:nvPr/>
        </p:nvPicPr>
        <p:blipFill>
          <a:blip r:embed="rId1"/>
          <a:stretch/>
        </p:blipFill>
        <p:spPr>
          <a:xfrm>
            <a:off x="3200400" y="4114800"/>
            <a:ext cx="5000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d Effe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evice on the end of the arm, attached via the wrist, that performs the task, such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ipper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o hold and move obj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perform work on a part, not just to pick it up. A tool could be held by a gripper, making the system more flexibl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D:\Documents and Settings\Ayssam\Desktop\gripper-t.gif"/>
          <p:cNvPicPr/>
          <p:nvPr/>
        </p:nvPicPr>
        <p:blipFill>
          <a:blip r:embed="rId1"/>
          <a:stretch/>
        </p:blipFill>
        <p:spPr>
          <a:xfrm>
            <a:off x="4038480" y="4762440"/>
            <a:ext cx="38102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. Craig, Introduction to Robotics: Mechanics and Control,” 2nd edition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ISBN: 0-201-52539-9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aco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ajectory gen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obot cont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A reprogrammable manipulator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 to perform specific mechanical functions such as move material and pa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Calibri"/>
              </a:rPr>
              <a:t>Robotics</a:t>
            </a: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the science dealing with design, construction and operation of rob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ipul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bot manipulators are composed of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ed by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jo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1400"/>
          <p:cNvPicPr/>
          <p:nvPr/>
        </p:nvPicPr>
        <p:blipFill>
          <a:blip r:embed="rId1"/>
          <a:stretch/>
        </p:blipFill>
        <p:spPr>
          <a:xfrm>
            <a:off x="990720" y="2895480"/>
            <a:ext cx="2396880" cy="3429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photo"/>
          <p:cNvPicPr/>
          <p:nvPr/>
        </p:nvPicPr>
        <p:blipFill>
          <a:blip r:embed="rId2"/>
          <a:stretch/>
        </p:blipFill>
        <p:spPr>
          <a:xfrm>
            <a:off x="4419720" y="2819520"/>
            <a:ext cx="41148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joint is the connection between two or more links at their nod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nstrains the motions of the connected li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joint can be classified 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e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-DO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-D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8318-6991-47D5-8C98-2FA4710B1A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Revolut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rot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D2E7-8366-4E25-BD7C-3999FC32E8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4457880" cy="2724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Prismatic Joint"/>
          <p:cNvPicPr/>
          <p:nvPr/>
        </p:nvPicPr>
        <p:blipFill>
          <a:blip r:embed="rId2"/>
          <a:stretch/>
        </p:blipFill>
        <p:spPr>
          <a:xfrm>
            <a:off x="6019920" y="31240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-DOF J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Prismatic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ses a translational mo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mbol: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D822-FC15-455F-98DE-B05FE647A03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2176560" cy="2392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Prismatic Joint"/>
          <p:cNvPicPr/>
          <p:nvPr/>
        </p:nvPicPr>
        <p:blipFill>
          <a:blip r:embed="rId2"/>
          <a:stretch/>
        </p:blipFill>
        <p:spPr>
          <a:xfrm rot="16200000">
            <a:off x="5324400" y="2828880"/>
            <a:ext cx="2286000" cy="291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yssam</cp:lastModifiedBy>
  <dcterms:modified xsi:type="dcterms:W3CDTF">2009-09-03T03:16:23Z</dcterms:modified>
  <cp:revision>62</cp:revision>
  <dc:subject/>
  <dc:title>Slide 1</dc:title>
</cp:coreProperties>
</file>